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150B-056F-463A-B4CA-CF706DF50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3A0E-3533-4108-9DC8-E9F5C1A2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34F3-2CFA-4C69-B2AE-559BC5642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7800-0C03-431B-9A16-96AEA00BC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AD61-7945-476D-85C2-3F138BF9C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9D3-597E-4497-A45A-74EF2C1BE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846-6CC6-43CB-A591-E1F9C84BE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6342-E308-4A69-9F94-99F64C8C3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216E-8149-4675-89DF-79306330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2203-7A8F-4585-A691-8A3B9D9C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D1F-D4CB-48AD-B883-EE98DF4F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3AF-5DCC-4A4A-A793-4ACB4F8B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FEE-FD24-4854-9277-D454E0ED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862-B77C-4EF5-A88E-A8054E1B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E1E-233E-4479-96C4-7D0CE632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068-0B33-47C7-B4D1-58C1A13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39A-7C67-4E2F-97EC-65BE40FF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67F-B0C4-4A65-AFAC-67D8F31C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7CB-9E66-4613-A9FC-5E3AB59A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75B-223E-420E-9D0A-D62F7C6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1EB-7E75-4A87-8D94-317F80EE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623-9E8F-44AE-B1EA-DFB92E7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utura 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6624-D16F-4647-8B75-B54165EA1336}" type="slidenum">
              <a:rPr b="0" lang="en-US" sz="1200" spc="-1" strike="noStrike">
                <a:solidFill>
                  <a:srgbClr val="898989"/>
                </a:solidFill>
                <a:latin typeface="Futura 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tephen\AppData\Local\Microsoft\Windows\Temporary Internet Files\Content.IE5\PZBLJGWS\MPj04278100000[1].jpg"/>
          <p:cNvPicPr/>
          <p:nvPr/>
        </p:nvPicPr>
        <p:blipFill>
          <a:blip r:embed="rId1"/>
          <a:stretch/>
        </p:blipFill>
        <p:spPr>
          <a:xfrm>
            <a:off x="-42840" y="23760"/>
            <a:ext cx="9193320" cy="6840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Georgia"/>
              </a:rPr>
              <a:t>Education in the United Stat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Imprint MT Shadow"/>
                <a:ea typeface="Times New Roman"/>
              </a:rPr>
              <a:t>A Brief History of Influential Even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d0d0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Georgia"/>
              </a:rPr>
              <a:t>US Educational Timelin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447920" y="1447920"/>
            <a:ext cx="6095880" cy="234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olonial Ame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rmal education reserved for e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pprenticeships used to edu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lower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85800" y="4462560"/>
            <a:ext cx="7620120" cy="2471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Early 1800’s – Industrial Rev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Growing market for skilled workers &amp;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Vocational vs. Academic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10"/>
          <p:cNvSpPr/>
          <p:nvPr/>
        </p:nvSpPr>
        <p:spPr>
          <a:xfrm>
            <a:off x="4343400" y="3429000"/>
            <a:ext cx="304920" cy="9144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11"/>
          <p:cNvSpPr/>
          <p:nvPr/>
        </p:nvSpPr>
        <p:spPr>
          <a:xfrm>
            <a:off x="4343400" y="60199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609480" y="1447920"/>
            <a:ext cx="7848720" cy="204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d-1800’s – Agricultural Rev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Need for more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“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Land Grant” higher education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85800" y="4038480"/>
            <a:ext cx="7620120" cy="192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840 Cens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55% of boys and girls ages 5-15 atte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rmal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chools largely unorganized &amp;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own Arrow 10"/>
          <p:cNvSpPr/>
          <p:nvPr/>
        </p:nvSpPr>
        <p:spPr>
          <a:xfrm>
            <a:off x="4343400" y="3048120"/>
            <a:ext cx="304920" cy="9144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11"/>
          <p:cNvSpPr/>
          <p:nvPr/>
        </p:nvSpPr>
        <p:spPr>
          <a:xfrm>
            <a:off x="4343400" y="6095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457200" y="1447920"/>
            <a:ext cx="8153280" cy="2471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d-1800’s - Purpose of School Deb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romote &amp; preserve democratic value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reserve America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repare a stronger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685800" y="4191120"/>
            <a:ext cx="7620120" cy="234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892 – Committee of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avored traditional academic stud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ursuit of knowledge and training of intel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tart traditional subjects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wn Arrow 10"/>
          <p:cNvSpPr/>
          <p:nvPr/>
        </p:nvSpPr>
        <p:spPr>
          <a:xfrm>
            <a:off x="4343400" y="342900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11"/>
          <p:cNvSpPr/>
          <p:nvPr/>
        </p:nvSpPr>
        <p:spPr>
          <a:xfrm>
            <a:off x="4343400" y="61722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685800" y="1447920"/>
            <a:ext cx="739152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910:  72% of children attended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85800" y="4816440"/>
            <a:ext cx="746748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925:  Supreme court ruled private schools could meet compulsory attendan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own Arrow 10"/>
          <p:cNvSpPr/>
          <p:nvPr/>
        </p:nvSpPr>
        <p:spPr>
          <a:xfrm>
            <a:off x="4343400" y="213372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wn Arrow 11"/>
          <p:cNvSpPr/>
          <p:nvPr/>
        </p:nvSpPr>
        <p:spPr>
          <a:xfrm>
            <a:off x="4343400" y="5867280"/>
            <a:ext cx="304920" cy="8384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685800" y="2895480"/>
            <a:ext cx="746748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918:  Every state required completion of element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wn Arrow 12"/>
          <p:cNvSpPr/>
          <p:nvPr/>
        </p:nvSpPr>
        <p:spPr>
          <a:xfrm>
            <a:off x="4343400" y="396252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914400" y="3809880"/>
            <a:ext cx="7391520" cy="192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57 - Russia Launches Sputni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 Children declared “defici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Large reforms in science, math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engineering education be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838080" y="1447920"/>
            <a:ext cx="7467840" cy="192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54 - Brown vs. BOE Topek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eclared separate was “inherently uneq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aved the way for racial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n Arrow 11"/>
          <p:cNvSpPr/>
          <p:nvPr/>
        </p:nvSpPr>
        <p:spPr>
          <a:xfrm>
            <a:off x="4343400" y="58672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12"/>
          <p:cNvSpPr/>
          <p:nvPr/>
        </p:nvSpPr>
        <p:spPr>
          <a:xfrm>
            <a:off x="4343400" y="304812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09480" y="3809880"/>
            <a:ext cx="8077320" cy="204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75 – Education for All Handicapped Children Act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rior to this only 1/5 children with dis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ttended school (about 1 million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38080" y="1447920"/>
            <a:ext cx="7467840" cy="149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72 – Title IX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Ended discrimination on the basis of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reated more opportunities for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11"/>
          <p:cNvSpPr/>
          <p:nvPr/>
        </p:nvSpPr>
        <p:spPr>
          <a:xfrm>
            <a:off x="4343400" y="594360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12"/>
          <p:cNvSpPr/>
          <p:nvPr/>
        </p:nvSpPr>
        <p:spPr>
          <a:xfrm>
            <a:off x="4343400" y="304812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762120" y="3809880"/>
            <a:ext cx="7696080" cy="234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2001 – No Child Left Behind P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ost comprehensive federal role in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“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tandards-based”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838080" y="1447920"/>
            <a:ext cx="7467840" cy="149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90 – EHA Revised into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dividuals with Disabilities in Educ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11"/>
          <p:cNvSpPr/>
          <p:nvPr/>
        </p:nvSpPr>
        <p:spPr>
          <a:xfrm>
            <a:off x="4343400" y="58672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12"/>
          <p:cNvSpPr/>
          <p:nvPr/>
        </p:nvSpPr>
        <p:spPr>
          <a:xfrm>
            <a:off x="4343400" y="266688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838080" y="1447920"/>
            <a:ext cx="7467840" cy="2775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2004 – IDEA Revised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dividuals with Disabilities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mprovemen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evised to align with NC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bout 6 million children in US rece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rvices under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8:33:40Z</dcterms:created>
  <dc:creator>Carlile, Crista (CURR)</dc:creator>
  <dc:description>Futura BK font, 24pt.
Garamond, 44 pt. Headings</dc:description>
  <cp:keywords>Education instruction school students teachers</cp:keywords>
  <dc:language>en-US</dc:language>
  <cp:lastModifiedBy>Carlile, Crista (CURR)</cp:lastModifiedBy>
  <dcterms:modified xsi:type="dcterms:W3CDTF">2009-08-27T19:19:53Z</dcterms:modified>
  <cp:revision>20</cp:revision>
  <dc:subject>Education instruction school students teachers</dc:subject>
  <dc:title>Education in the United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22451033</vt:lpwstr>
  </property>
</Properties>
</file>